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gif" ContentType="image/gif"/>
  <Override PartName="/ppt/media/image20.jpeg" ContentType="image/jpeg"/>
  <Override PartName="/ppt/media/image25.jpeg" ContentType="image/jpeg"/>
  <Override PartName="/ppt/media/image21.jpeg" ContentType="image/jpeg"/>
  <Override PartName="/ppt/media/image6.gif" ContentType="image/gif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8.jpeg" ContentType="image/jpeg"/>
  <Override PartName="/ppt/media/image10.jpeg" ContentType="image/jpeg"/>
  <Override PartName="/ppt/media/image29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gif" ContentType="image/gif"/>
  <Override PartName="/ppt/media/image7.jpeg" ContentType="image/jpeg"/>
  <Override PartName="/ppt/media/image38.jpeg" ContentType="image/jpeg"/>
  <Override PartName="/ppt/media/image5.gif" ContentType="image/gif"/>
  <Override PartName="/ppt/media/image14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8.jpeg" ContentType="image/jpeg"/>
  <Override PartName="/ppt/media/Beethoven%20-%20SONATA%20AO%20LUAR.wav" ContentType="audio/x-wav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2B48-4A8B-40B8-8E98-800561DB6072}" type="slidenum">
              <a:rPr b="0" lang="ro-R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onte Ariston Normal Italic Regular 60 pt sólida. Depois Time New roman Italic e Verdana na identific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7619-47F0-4707-AA80-B9E7F3777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238D-F4E3-4AAB-A53E-28215C7E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1B65-9DC9-401E-B1DE-A12F72C7A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1A7B-8228-47C7-A2D2-D3A70B239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18145-6485-482B-96F0-F33D83CE7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9E112-5B2C-4082-848E-AE9AFC87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2B7BF-3D3C-42AC-AC71-41D907E6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7D9EE-22C7-4B46-92F3-F4C81301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D66A1-6C2F-46F0-BEDC-CB2FD115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A3512-56DD-4C08-896B-2185436E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EE013-EBDD-42D3-A057-4CD9D5CA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8732-37EC-4E46-B140-E55B9B81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3A61D-74E3-4DE4-963F-8AD68A6F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ED50D-2077-44AA-9B9A-61FC8A62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2DC87A-8E65-49B6-87E5-4CEA00B1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70830-A19F-43C5-BF43-D0C1D9CD9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90567-D04D-4A5C-902C-08D2C7F40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6C0A-8991-458D-B097-9433E4A9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452B-49F8-452A-A628-BBCC79E7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9825-63CE-42A6-A1F1-07B98C51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EA35-652B-415F-811B-7513E505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A177-F9F9-4E4D-B7BF-43DA5089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FF61-13E5-41D9-BA4F-27366BB9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0D9B-8543-4B2C-885A-885F5CA9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5F0C-9832-4DE8-9388-F33C8CAC0F06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6ABD-FA9A-4EA2-B7A0-C6CF5C10E2E3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eethoven%20-%20SONATA%20AO%20LUAR.wav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gif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49120" y="656100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3399"/>
                </a:solidFill>
                <a:latin typeface="Arial"/>
              </a:rPr>
              <a:t>Rio Piracicab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09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0" y="907920"/>
            <a:ext cx="4103640" cy="14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76320">
                  <a:solidFill>
                    <a:srgbClr val="0066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OMUL</a:t>
            </a:r>
            <a:endParaRPr b="0" lang="en-US" sz="1800" spc="1" strike="noStrike">
              <a:ln w="76320">
                <a:solidFill>
                  <a:srgbClr val="0066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812000" y="2492280"/>
            <a:ext cx="936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66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și</a:t>
            </a:r>
            <a:endParaRPr b="0" lang="en-US" sz="1800" spc="1" strike="noStrike">
              <a:ln w="57240">
                <a:solidFill>
                  <a:srgbClr val="0066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763640" y="4869000"/>
            <a:ext cx="66978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66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MEDIUL</a:t>
            </a:r>
            <a:endParaRPr b="0" lang="en-US" sz="1800" spc="1" strike="noStrike">
              <a:ln w="57240">
                <a:solidFill>
                  <a:srgbClr val="0066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</p:spTree>
  </p:cSld>
  <p:transition spd="slow" advTm="13000">
    <p:diamond/>
    <p:sndAc>
      <p:stSnd>
        <p:snd r:embed="rId2" name="Beethoven%20-%20SONATA%20AO%20LUA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49120" y="4033800"/>
            <a:ext cx="7102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ffff"/>
                </a:solidFill>
                <a:latin typeface="Arial Black"/>
              </a:rPr>
              <a:t> </a:t>
            </a:r>
            <a:r>
              <a:rPr b="1" lang="ro-RO" sz="3600" spc="-1" strike="noStrike">
                <a:solidFill>
                  <a:srgbClr val="00ffff"/>
                </a:solidFill>
                <a:latin typeface="Arial Black"/>
              </a:rPr>
              <a:t>În următoarea etapă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ffff"/>
                </a:solidFill>
                <a:latin typeface="Arial Black"/>
              </a:rPr>
              <a:t>    </a:t>
            </a:r>
            <a:r>
              <a:rPr b="1" lang="ro-RO" sz="3600" spc="-1" strike="noStrike">
                <a:solidFill>
                  <a:srgbClr val="00ffff"/>
                </a:solidFill>
                <a:latin typeface="Arial Black"/>
              </a:rPr>
              <a:t>cea de vânăto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ffff"/>
                </a:solidFill>
                <a:latin typeface="Arial Black"/>
              </a:rPr>
              <a:t>    </a:t>
            </a:r>
            <a:r>
              <a:rPr b="1" lang="ro-RO" sz="3600" spc="-1" strike="noStrike">
                <a:solidFill>
                  <a:srgbClr val="00ffff"/>
                </a:solidFill>
                <a:latin typeface="Arial Black"/>
              </a:rPr>
              <a:t>omul și-a îmbunătățit hr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ffff"/>
                </a:solidFill>
                <a:latin typeface="Arial Black"/>
              </a:rPr>
              <a:t>    </a:t>
            </a:r>
            <a:r>
              <a:rPr b="1" lang="ro-RO" sz="3600" spc="-1" strike="noStrike">
                <a:solidFill>
                  <a:srgbClr val="00ffff"/>
                </a:solidFill>
                <a:latin typeface="Arial Black"/>
              </a:rPr>
              <a:t>cu carnea animalelor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24000" y="407664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ro-RO" sz="4800" spc="-1" strike="noStrike">
                <a:solidFill>
                  <a:srgbClr val="00ffff"/>
                </a:solidFill>
                <a:latin typeface="Arial"/>
              </a:rPr>
              <a:t>și-a acoperit trupu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1" lang="ro-RO" sz="4800" spc="-1" strike="noStrike">
                <a:solidFill>
                  <a:srgbClr val="00ffff"/>
                </a:solidFill>
                <a:latin typeface="Arial"/>
              </a:rPr>
              <a:t>cu pielea și blana lor 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7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11280" y="23760"/>
            <a:ext cx="7705800" cy="6834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42520" y="3789360"/>
            <a:ext cx="7854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003399"/>
                </a:solidFill>
                <a:latin typeface="Arial"/>
              </a:rPr>
              <a:t>Primele manifestăr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3399"/>
                </a:solidFill>
                <a:latin typeface="Arial"/>
              </a:rPr>
              <a:t>ale simțului artistic al omulu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3399"/>
                </a:solidFill>
                <a:latin typeface="Arial"/>
              </a:rPr>
              <a:t>au fost descoperi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3399"/>
                </a:solidFill>
                <a:latin typeface="Arial"/>
              </a:rPr>
              <a:t>pe pereții peșterilo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18120" y="404640"/>
            <a:ext cx="7514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- A învățat să să se foloseasc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de mediul înconjurător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descoperind tainele naturii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a început să-și creez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propriul mediu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94160" y="3284640"/>
            <a:ext cx="7473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6600"/>
                </a:solidFill>
                <a:latin typeface="Arial Black"/>
              </a:rPr>
              <a:t>Mediul natural de viață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6600"/>
                </a:solidFill>
                <a:latin typeface="Arial Black"/>
              </a:rPr>
              <a:t>a fost înlocuit, trepta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6600"/>
                </a:solidFill>
                <a:latin typeface="Arial Black"/>
              </a:rPr>
              <a:t>cu cel creat</a:t>
            </a:r>
            <a:r>
              <a:rPr b="1" lang="ro-RO" sz="3600" spc="-1" strike="noStrike">
                <a:solidFill>
                  <a:srgbClr val="ffffff"/>
                </a:solidFill>
                <a:latin typeface="Arial Black"/>
              </a:rPr>
              <a:t> – pentru a satisfa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Arial Black"/>
              </a:rPr>
              <a:t>                       </a:t>
            </a:r>
            <a:r>
              <a:rPr b="1" lang="ro-RO" sz="3600" spc="-1" strike="noStrike">
                <a:solidFill>
                  <a:srgbClr val="ffffff"/>
                </a:solidFill>
                <a:latin typeface="Arial Black"/>
              </a:rPr>
              <a:t>dorința de conf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Arial Black"/>
              </a:rPr>
              <a:t>                       </a:t>
            </a:r>
            <a:r>
              <a:rPr b="1" lang="ro-RO" sz="3600" spc="-1" strike="noStrike">
                <a:solidFill>
                  <a:srgbClr val="ffffff"/>
                </a:solidFill>
                <a:latin typeface="Arial Black"/>
              </a:rPr>
              <a:t>a omului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6336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72360" y="1052640"/>
            <a:ext cx="4349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6600"/>
                </a:solidFill>
                <a:latin typeface="Arial"/>
              </a:rPr>
              <a:t>Natura a pierdu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ro-RO" sz="3600" spc="-1" strike="noStrike">
                <a:solidFill>
                  <a:srgbClr val="ff6600"/>
                </a:solidFill>
                <a:latin typeface="Arial"/>
              </a:rPr>
              <a:t>din ce în 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ro-RO" sz="3600" spc="-1" strike="noStrike">
                <a:solidFill>
                  <a:srgbClr val="ff6600"/>
                </a:solidFill>
                <a:latin typeface="Arial"/>
              </a:rPr>
              <a:t>mai mult tere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24000" y="476280"/>
            <a:ext cx="430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Marile aglomerări urba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-4068720" y="-2332080"/>
            <a:ext cx="15239880" cy="11430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5013360"/>
            <a:ext cx="77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Cu clădiri din beton și sticlă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cu asfalt, ciment și piatră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9640" y="508464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cu aerul poluat de numărul 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mașini, din ce în ce mai mar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39640" y="2349360"/>
            <a:ext cx="315288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282920" y="0"/>
            <a:ext cx="486108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3598920" cy="3417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0" y="2336760"/>
            <a:ext cx="4897440" cy="4521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 rot="5400000">
            <a:off x="1583640" y="3033720"/>
            <a:ext cx="604836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66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înconjurător</a:t>
            </a:r>
            <a:endParaRPr b="0" lang="en-US" sz="1800" spc="1" strike="noStrike">
              <a:ln w="57240">
                <a:solidFill>
                  <a:srgbClr val="0066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p:transition spd="med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4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5508720" cy="68594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3708360" y="-17640"/>
            <a:ext cx="5435640" cy="68756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184480" y="5373720"/>
            <a:ext cx="455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ro-RO" sz="3600" spc="-1" strike="noStrike">
                <a:solidFill>
                  <a:srgbClr val="ffff00"/>
                </a:solidFill>
                <a:latin typeface="Arial Black"/>
              </a:rPr>
              <a:t>cu fabrici și uzi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60" y="333360"/>
            <a:ext cx="686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ro-RO" sz="3600" spc="-1" strike="noStrike">
                <a:solidFill>
                  <a:srgbClr val="ffff66"/>
                </a:solidFill>
                <a:latin typeface="Arial"/>
              </a:rPr>
              <a:t>au restrâns mediul de viață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ro-RO" sz="3600" spc="-1" strike="noStrike">
                <a:solidFill>
                  <a:srgbClr val="ffff66"/>
                </a:solidFill>
                <a:latin typeface="Arial"/>
              </a:rPr>
              <a:t>al animalelor și plantel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5157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au dus la dispariția a numeroa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specii de plante și anima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148360" y="0"/>
            <a:ext cx="3995640" cy="39751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51600" cy="6858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6443640" y="3429000"/>
            <a:ext cx="1716120" cy="3429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428472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492360" y="2060640"/>
            <a:ext cx="439272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poluarea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incendiile provocat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tăierea   necontrolată a pădurilor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84680" y="1052640"/>
            <a:ext cx="625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experimentele  atomice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13440" y="1773360"/>
            <a:ext cx="272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au produ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schimbăr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ireversibil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în natur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135600" y="0"/>
            <a:ext cx="579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6600"/>
                </a:solidFill>
                <a:latin typeface="Arial"/>
              </a:rPr>
              <a:t>Leagănul vieții, Pământu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6600"/>
                </a:solidFill>
                <a:latin typeface="Arial"/>
              </a:rPr>
              <a:t>asistă neputincios la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784680" y="1413000"/>
            <a:ext cx="5041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schimbările de clim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subțierea stratului de ozo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încălzirea global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ploile acid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fenomenul de deșertific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a unor zone din ce în 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mai mari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- despăduriri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- eroziunea solului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poluarea apei, aerulu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și a solulu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-304920" y="-223920"/>
            <a:ext cx="9753840" cy="73058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492360" y="189000"/>
            <a:ext cx="531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0000"/>
                </a:solidFill>
                <a:latin typeface="Arial"/>
              </a:rPr>
              <a:t>HAIDEȚI SĂ ARUCĂ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0000"/>
                </a:solidFill>
                <a:latin typeface="Arial"/>
              </a:rPr>
              <a:t>INDIFERENȚ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0000"/>
                </a:solidFill>
                <a:latin typeface="Arial"/>
              </a:rPr>
              <a:t>LA COȘUL DE GUNOI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428840" y="1434960"/>
            <a:ext cx="5589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0000"/>
                </a:solidFill>
                <a:latin typeface="Arial"/>
              </a:rPr>
              <a:t>Să ne unim forțe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0000"/>
                </a:solidFill>
                <a:latin typeface="Arial"/>
              </a:rPr>
              <a:t>pentru a salva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0000"/>
                </a:solidFill>
                <a:latin typeface="Arial"/>
              </a:rPr>
              <a:t>PĂMÂNTUL, frumoas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33cc"/>
                </a:solidFill>
                <a:latin typeface="Arial"/>
              </a:rPr>
              <a:t>Planetă Albastră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84216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95280" y="260280"/>
            <a:ext cx="546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0000"/>
                </a:solidFill>
                <a:latin typeface="Arial"/>
              </a:rPr>
              <a:t>Fiecare poate face ceva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5600" y="4076640"/>
            <a:ext cx="463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0000"/>
                </a:solidFill>
                <a:latin typeface="Arial"/>
              </a:rPr>
              <a:t>Totul este să vrea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043520" y="0"/>
            <a:ext cx="510048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25800" y="3573360"/>
            <a:ext cx="3667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00"/>
                </a:solidFill>
                <a:latin typeface="Arial"/>
              </a:rPr>
              <a:t>VOI VREȚI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00"/>
                </a:solidFill>
                <a:latin typeface="Arial"/>
              </a:rPr>
              <a:t>SĂ VĂ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00"/>
                </a:solidFill>
                <a:latin typeface="Arial"/>
              </a:rPr>
              <a:t>ALĂTURAȚ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00"/>
                </a:solidFill>
                <a:latin typeface="Arial"/>
              </a:rPr>
              <a:t>NOUĂ 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24360" cy="3924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8360" cy="38606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0" y="3857760"/>
            <a:ext cx="4500720" cy="30002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3979800" y="0"/>
            <a:ext cx="51642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6588000" y="6491160"/>
            <a:ext cx="2160720" cy="366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-59040" y="3468600"/>
            <a:ext cx="4405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Viitorul depin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și de VOI 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187280" y="3716280"/>
            <a:ext cx="5545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ediul </a:t>
            </a:r>
            <a:endParaRPr b="0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înconjurător ?</a:t>
            </a:r>
            <a:endParaRPr b="0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0" name=""/>
          <p:cNvSpPr/>
          <p:nvPr/>
        </p:nvSpPr>
        <p:spPr>
          <a:xfrm>
            <a:off x="537840" y="1125360"/>
            <a:ext cx="797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ff6600"/>
                </a:solidFill>
                <a:latin typeface="Arial"/>
              </a:rPr>
              <a:t>Vă mai amintiți, copii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o-RO" sz="6000" spc="-1" strike="noStrike">
                <a:solidFill>
                  <a:srgbClr val="ff6600"/>
                </a:solidFill>
                <a:latin typeface="Arial"/>
              </a:rPr>
              <a:t>din ce este alcătui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622920" y="2781360"/>
            <a:ext cx="2521080" cy="2520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694880" y="620640"/>
            <a:ext cx="52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ffff00"/>
                </a:solidFill>
                <a:latin typeface="Arial"/>
              </a:rPr>
              <a:t>Felicitări !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72320" y="765000"/>
            <a:ext cx="3029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elementel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naturale:</a:t>
            </a:r>
            <a:r>
              <a:rPr b="1" lang="ro-RO" sz="40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0400" y="1822320"/>
            <a:ext cx="2961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ff66"/>
                </a:solidFill>
                <a:latin typeface="Arial"/>
              </a:rPr>
              <a:t>apa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ff66"/>
                </a:solidFill>
                <a:latin typeface="Arial"/>
              </a:rPr>
              <a:t>aerul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ff66"/>
                </a:solidFill>
                <a:latin typeface="Arial"/>
              </a:rPr>
              <a:t>soarele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ff66"/>
                </a:solidFill>
                <a:latin typeface="Arial"/>
              </a:rPr>
              <a:t>relieful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ff66"/>
                </a:solidFill>
                <a:latin typeface="Arial"/>
              </a:rPr>
              <a:t>solul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ff66"/>
                </a:solidFill>
                <a:latin typeface="Arial"/>
              </a:rPr>
              <a:t>subsolul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ff66"/>
                </a:solidFill>
                <a:latin typeface="Arial"/>
              </a:rPr>
              <a:t>plantel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ff66"/>
                </a:solidFill>
                <a:latin typeface="Arial"/>
              </a:rPr>
              <a:t>animalel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ff66"/>
                </a:solidFill>
                <a:latin typeface="Arial"/>
              </a:rPr>
              <a:t>omul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05440" y="189000"/>
            <a:ext cx="29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6600"/>
                </a:solidFill>
                <a:latin typeface="Arial"/>
              </a:rPr>
              <a:t>Totalitate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08720" y="765000"/>
            <a:ext cx="3456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9933"/>
                </a:solidFill>
                <a:latin typeface="Arial"/>
              </a:rPr>
              <a:t>elementel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9933"/>
                </a:solidFill>
                <a:latin typeface="Arial"/>
              </a:rPr>
              <a:t>cre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9933"/>
                </a:solidFill>
                <a:latin typeface="Arial"/>
              </a:rPr>
              <a:t>de om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835280" y="620640"/>
            <a:ext cx="129672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372360" y="692280"/>
            <a:ext cx="100800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65480" y="3213000"/>
            <a:ext cx="5261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ffff00"/>
                </a:solidFill>
                <a:latin typeface="Arial"/>
              </a:rPr>
              <a:t>așezările omenești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00"/>
                </a:solidFill>
                <a:latin typeface="Arial"/>
              </a:rPr>
              <a:t>agricultura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ffff00"/>
                </a:solidFill>
                <a:latin typeface="Arial"/>
              </a:rPr>
              <a:t>industria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ffff00"/>
                </a:solidFill>
                <a:latin typeface="Arial"/>
              </a:rPr>
              <a:t>mineritu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rumuri, </a:t>
            </a:r>
            <a:r>
              <a:rPr b="1" lang="ro-RO" sz="3200" spc="-1" strike="noStrike">
                <a:solidFill>
                  <a:srgbClr val="ffff00"/>
                </a:solidFill>
                <a:latin typeface="Arial"/>
              </a:rPr>
              <a:t>căi ferat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o-RO" sz="3200" spc="-1" strike="noStrike">
                <a:solidFill>
                  <a:srgbClr val="ffff00"/>
                </a:solidFill>
                <a:latin typeface="Arial"/>
              </a:rPr>
              <a:t>porturi, aerogări, podu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o-RO" sz="3200" spc="-1" strike="noStrike">
                <a:solidFill>
                  <a:srgbClr val="ffff00"/>
                </a:solidFill>
                <a:latin typeface="Arial"/>
              </a:rPr>
              <a:t>(rețele de trnsport)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250920" y="260280"/>
            <a:ext cx="4608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Omul, parte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 naturii,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253080" y="2227320"/>
            <a:ext cx="429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003399"/>
                </a:solidFill>
                <a:latin typeface="Arial"/>
              </a:rPr>
              <a:t>are nevoie d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3068640"/>
            <a:ext cx="369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o-RO" sz="4800" spc="-1" strike="noStrike">
                <a:solidFill>
                  <a:srgbClr val="ff6600"/>
                </a:solidFill>
                <a:latin typeface="Arial"/>
              </a:rPr>
              <a:t>hrană,</a:t>
            </a:r>
            <a:r>
              <a:rPr b="1" lang="ro-RO" sz="4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o-RO" sz="4800" spc="-1" strike="noStrike">
                <a:solidFill>
                  <a:srgbClr val="00ffcc"/>
                </a:solidFill>
                <a:latin typeface="Arial"/>
              </a:rPr>
              <a:t>aer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o-RO" sz="4800" spc="-1" strike="noStrike">
                <a:solidFill>
                  <a:srgbClr val="3399ff"/>
                </a:solidFill>
                <a:latin typeface="Arial"/>
              </a:rPr>
              <a:t>apă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o-RO" sz="4800" spc="-1" strike="noStrike">
                <a:solidFill>
                  <a:srgbClr val="ffff00"/>
                </a:solidFill>
                <a:latin typeface="Arial"/>
              </a:rPr>
              <a:t>adăpost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189000"/>
            <a:ext cx="8388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Încă de la apariția s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OMUL  s-a folosi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de mediul înconjurăt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pentru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a-și astâmpăra setea sau foamea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a-și construi adăpos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a produce bunuri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a explora bogățiile de la suprafaț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și din subsolul pământului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729612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-360" y="476280"/>
            <a:ext cx="59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ff6600"/>
                </a:solidFill>
                <a:latin typeface="Arial"/>
              </a:rPr>
              <a:t>Mai întâi culegător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" y="1341360"/>
            <a:ext cx="848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S-a adăpostit în peșteri și gro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pentru</a:t>
            </a: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 a se apăra de frig și animal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52320" y="3500280"/>
            <a:ext cx="6527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1" lang="ro-RO" sz="3200" spc="-1" strike="noStrike">
                <a:solidFill>
                  <a:srgbClr val="ff6600"/>
                </a:solidFill>
                <a:latin typeface="Arial Black"/>
              </a:rPr>
              <a:t>Descoperind focul, l-a folosi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1" lang="ro-RO" sz="3200" spc="-1" strike="noStrike">
                <a:solidFill>
                  <a:srgbClr val="ff6600"/>
                </a:solidFill>
                <a:latin typeface="Arial Black"/>
              </a:rPr>
              <a:t>pentru a-și  prepara hrana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1" lang="ro-RO" sz="3200" spc="-1" strike="noStrike">
                <a:solidFill>
                  <a:srgbClr val="ff6600"/>
                </a:solidFill>
                <a:latin typeface="Arial Black"/>
              </a:rPr>
              <a:t>pentru ilumina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1" lang="ro-RO" sz="3200" spc="-1" strike="noStrike">
                <a:solidFill>
                  <a:srgbClr val="ff6600"/>
                </a:solidFill>
                <a:latin typeface="Arial Black"/>
              </a:rPr>
              <a:t>să se încălzeasc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1" lang="ro-RO" sz="3200" spc="-1" strike="noStrike">
                <a:solidFill>
                  <a:srgbClr val="ff6600"/>
                </a:solidFill>
                <a:latin typeface="Arial Black"/>
              </a:rPr>
              <a:t>să se apere de animal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1" lang="ro-RO" sz="3200" spc="-1" strike="noStrike">
                <a:solidFill>
                  <a:srgbClr val="ff6600"/>
                </a:solidFill>
                <a:latin typeface="Arial Black"/>
              </a:rPr>
              <a:t>să prelucreze metale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06:41:59Z</dcterms:created>
  <dc:creator>user</dc:creator>
  <dc:description/>
  <dc:language>en-US</dc:language>
  <cp:lastModifiedBy>IULIA</cp:lastModifiedBy>
  <dcterms:modified xsi:type="dcterms:W3CDTF">2009-11-11T17:10:23Z</dcterms:modified>
  <cp:revision>77</cp:revision>
  <dc:subject/>
  <dc:title>Slide 1</dc:title>
</cp:coreProperties>
</file>